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BA04-7002-418F-BB7E-4D5FE496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BDF-DB44-4002-A796-672E5DF7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7A2-5F4E-476A-9447-FDD074F3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A27-827C-474E-9098-8DF8033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3F3-B398-4B17-A471-C6D15CA2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6F2-5E79-40A1-BBFC-98841AB9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83D-3D89-4AFA-902E-3CA36A4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0FC-3E20-4207-8017-93DB195F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695-6845-47D7-AFEC-A894885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63D-66EA-494D-BC61-34A2B95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B3D-9EE6-45ED-9830-CAF2337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0F1-63D1-4C2D-94AE-BE96F43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5DF-716D-40E5-ADE0-6622C13F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87E-CC54-4BDD-A4F5-86F7DDE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1FA3-C8FB-442D-A56C-33F678683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9:53Z</dcterms:modified>
  <cp:revision>118</cp:revision>
  <dc:subject/>
  <dc:title>Museum of World Stuff</dc:title>
</cp:coreProperties>
</file>